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02E4-1782-493C-9AC5-07582817D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8F98-E3E0-446A-A665-28CDF97A1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ED5-808B-4A0B-827A-594AB61A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5FF-4DC2-4B5F-BA03-7C186C0D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4B7-9F7B-4144-A2AF-1C2E1F6D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E42F-44BC-4ADB-B0B1-99E22565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79BD-97DC-4A1D-86AF-C840F0A9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A027-5233-4401-880C-E5AAEFCB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BB3-2AD1-4CB2-8CED-F1CE033E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0879-509C-41DD-BA29-6D0AE911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E14F-8236-47BF-A033-D61B7452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E371-2BFF-4068-82A0-4C9CA9FA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6BF1-9EC3-4AA5-A6DB-3AEBF1F1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5797-413E-4612-BEED-D5E7E725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5A88-019A-45E0-8207-23D89F68A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elin Col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05320"/>
            <a:ext cx="16002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, buenos dias? Mi nombre es Kaelin. Yo vivo en el New York City. Yo tengo catorce años.Yo tengo no hermanos. Yo soy bie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3" descr="Photo on 2011-10-21 at 13.48 #2.jpg"/>
          <p:cNvPicPr/>
          <p:nvPr/>
        </p:nvPicPr>
        <p:blipFill>
          <a:blip r:embed="rId1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5" descr="Photo on 2011-10-24 at 13.44.jpg"/>
          <p:cNvPicPr/>
          <p:nvPr/>
        </p:nvPicPr>
        <p:blipFill>
          <a:blip r:embed="rId2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0" descr="Photo on 2011-10-21 at 13.39 #2.jpg"/>
          <p:cNvPicPr/>
          <p:nvPr/>
        </p:nvPicPr>
        <p:blipFill>
          <a:blip r:embed="rId3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Nae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¿Quién quierer vomanos afuer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ada y tú? Nosotras tenemos estud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Nae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qué ha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4495680"/>
            <a:ext cx="373392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Alys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í! ¿Cuándo? Yo voy corr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666880" y="5105520"/>
            <a:ext cx="441972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Nae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sperar,pued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57913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Alys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cansada y quiero comer cenar. Adi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6"/>
          <p:cNvSpPr/>
          <p:nvPr/>
        </p:nvSpPr>
        <p:spPr>
          <a:xfrm>
            <a:off x="281952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stas ellas? Yo son cansada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3" descr="Photo on 2011-11-29 at 13.54.jpg"/>
          <p:cNvPicPr/>
          <p:nvPr/>
        </p:nvPicPr>
        <p:blipFill>
          <a:blip r:embed="rId4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819520" y="6477120"/>
            <a:ext cx="373356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Nae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us hermanas son boni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6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6400800"/>
            <a:ext cx="463320" cy="933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Photo on 12-6-12 at 9.30 AM.jpg"/>
          <p:cNvPicPr/>
          <p:nvPr/>
        </p:nvPicPr>
        <p:blipFill>
          <a:blip r:embed="rId6"/>
          <a:stretch/>
        </p:blipFill>
        <p:spPr>
          <a:xfrm>
            <a:off x="0" y="4572000"/>
            <a:ext cx="639720" cy="9334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76320" y="51055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ys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4" descr="Photo on 12-6-12 at 9.30 AM.jpg"/>
          <p:cNvPicPr/>
          <p:nvPr/>
        </p:nvPicPr>
        <p:blipFill>
          <a:blip r:embed="rId7"/>
          <a:stretch/>
        </p:blipFill>
        <p:spPr>
          <a:xfrm>
            <a:off x="1962000" y="4419720"/>
            <a:ext cx="744840" cy="1085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7" descr="Photo on 12-6-12 at 9.30 AM.jpg"/>
          <p:cNvPicPr/>
          <p:nvPr/>
        </p:nvPicPr>
        <p:blipFill>
          <a:blip r:embed="rId8"/>
          <a:stretch/>
        </p:blipFill>
        <p:spPr>
          <a:xfrm>
            <a:off x="2041560" y="5711760"/>
            <a:ext cx="665280" cy="97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Photo on 12-6-12 at 9.35 AM.jpg"/>
          <p:cNvPicPr/>
          <p:nvPr/>
        </p:nvPicPr>
        <p:blipFill>
          <a:blip r:embed="rId9"/>
          <a:stretch/>
        </p:blipFill>
        <p:spPr>
          <a:xfrm>
            <a:off x="2041560" y="2511360"/>
            <a:ext cx="652320" cy="938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Photo on 12-6-12 at 9.35 AM.jpg"/>
          <p:cNvPicPr/>
          <p:nvPr/>
        </p:nvPicPr>
        <p:blipFill>
          <a:blip r:embed="rId10"/>
          <a:stretch/>
        </p:blipFill>
        <p:spPr>
          <a:xfrm>
            <a:off x="2041560" y="3809880"/>
            <a:ext cx="652320" cy="933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3" descr="Photo on 12-6-12 at 9.35 AM.jpg"/>
          <p:cNvPicPr/>
          <p:nvPr/>
        </p:nvPicPr>
        <p:blipFill>
          <a:blip r:embed="rId11"/>
          <a:stretch/>
        </p:blipFill>
        <p:spPr>
          <a:xfrm>
            <a:off x="2041560" y="5102280"/>
            <a:ext cx="652320" cy="938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Photo on 12-6-12 at 9.35 AM.jpg"/>
          <p:cNvPicPr/>
          <p:nvPr/>
        </p:nvPicPr>
        <p:blipFill>
          <a:blip r:embed="rId12"/>
          <a:stretch/>
        </p:blipFill>
        <p:spPr>
          <a:xfrm>
            <a:off x="669960" y="4572000"/>
            <a:ext cx="6523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3:37Z</dcterms:modified>
  <cp:revision>109</cp:revision>
  <dc:subject/>
  <dc:title>Profile</dc:title>
</cp:coreProperties>
</file>